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746-BB8F-4E6D-BCCC-A2B04348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BD6-31B0-4E44-BC1A-80ABB3B4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4D4-7673-4F59-99A0-270ECFBA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56E-2BA5-4A80-B77F-05EDA994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10C-909C-4CB6-97B8-30034662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8F8-5710-4273-84FF-B669EAA3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8FB-06D0-4EEC-B779-89033EFE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296-EBF2-43BC-9483-5D21BA44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778-7A52-42E9-A3E3-A600AFFA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0E4-D57F-427D-B9EC-E59600F6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BC6-6BA1-4ABA-AC7D-DF21FF97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E19-F937-4AF9-8665-8C3D0815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1111"/>
            </a:gs>
            <a:gs pos="50000">
              <a:srgbClr val="cc0000"/>
            </a:gs>
            <a:gs pos="100000">
              <a:srgbClr val="11111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9736-BD3E-4B5D-B79C-1B9694984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gould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1111"/>
            </a:gs>
            <a:gs pos="50000">
              <a:srgbClr val="cc0000"/>
            </a:gs>
            <a:gs pos="100000">
              <a:srgbClr val="11111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1219320"/>
            <a:ext cx="6019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Laser</a:t>
            </a:r>
            <a:endParaRPr b="0" i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4267080"/>
            <a:ext cx="342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h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5029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mak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3/11, 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06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1111"/>
            </a:gs>
            <a:gs pos="50000">
              <a:srgbClr val="cc0000"/>
            </a:gs>
            <a:gs pos="100000">
              <a:srgbClr val="11111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G. Gould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62120" y="457200"/>
            <a:ext cx="7467480" cy="236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3733920"/>
            <a:ext cx="480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.Gou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2/28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eb.mit.edu/invent/iow/goul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24280" y="480060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4876920"/>
            <a:ext cx="38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nd Squ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3/11, 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1111"/>
            </a:gs>
            <a:gs pos="50000">
              <a:srgbClr val="cc0000"/>
            </a:gs>
            <a:gs pos="100000">
              <a:srgbClr val="11111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ntor: Gordon Gou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rdon was born in New York City in 19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rdon was working toward a Ph.d in physics at Colombia Un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Colombia University, Gordon was doing research on microwave spectrosco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aturday night he was inspired instantly with the laser id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uld retired in 198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96080" y="609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00600" y="4876920"/>
            <a:ext cx="4191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nd Squ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3/11, 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203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1111"/>
            </a:gs>
            <a:gs pos="50000">
              <a:srgbClr val="cc0000"/>
            </a:gs>
            <a:gs pos="100000">
              <a:srgbClr val="11111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ntion: The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er is a light wave amplif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evice was designed to heat something up to the temperature of the Sun in a millionth of a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uld abandoned his doctorate, fearing competition, to get his invention into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1958 the laser has been getting improvements to it until it was filed as a patient in 195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totype resulted in a 20 year lawsuit which was won by Gould in 197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same year the laser was issued out into the outside world to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315200" y="609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5410080"/>
            <a:ext cx="380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nd Squ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3/11, 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3203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07Z</dcterms:created>
  <dc:creator>install</dc:creator>
  <dc:description/>
  <dc:language>en-US</dc:language>
  <cp:lastModifiedBy>install</cp:lastModifiedBy>
  <dcterms:modified xsi:type="dcterms:W3CDTF">2011-03-11T18:31:00Z</dcterms:modified>
  <cp:revision>11</cp:revision>
  <dc:subject/>
  <dc:title>Slide 1</dc:title>
</cp:coreProperties>
</file>